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PROJCTOR.WAV" ContentType="audio/x-wav"/>
  <Override PartName="/ppt/media/camera.wav" ContentType="audio/x-wav"/>
  <Override PartName="/ppt/media/zapbig0g.wav" ContentType="audio/x-wav"/>
  <Override PartName="/ppt/media/highchime.wav" ContentType="audio/x-wav"/>
  <Override PartName="/ppt/media/hzipup01.wav" ContentType="audio/x-wav"/>
  <Override PartName="/ppt/media/partyhorn.wav" ContentType="audio/x-wav"/>
  <Override PartName="/ppt/media/bserie06.wav" ContentType="audio/x-wav"/>
  <Override PartName="/ppt/media/caralarmoff.wav" ContentType="audio/x-wav"/>
  <Override PartName="/ppt/media/glass.wav" ContentType="audio/x-wav"/>
  <Override PartName="/ppt/media/zipup202.wav" ContentType="audio/x-wav"/>
  <Override PartName="/ppt/media/peopleoo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37D-50F3-4B7B-B305-EECFA7BC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782-62CB-4ADC-B013-76CE85C1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5A5-73DD-4FDE-9612-5B5258CB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2B6-A9F2-4677-87D3-D599F9B6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BF1-E667-422B-8501-2243E270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C22-C881-4E8F-B561-949787C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FA4-AE74-4CF2-A87A-32580304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E8F-F345-4B34-A161-621F042D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211-1EB9-468D-BD1D-9C67E7DB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C37-F669-4110-AAB2-361D1722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ADD-2FD0-4627-819F-165BD3CC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23B-2D3A-44EB-B15C-716BDE11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5F39-63CF-4587-A427-D9C123DE3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PROJCTOR.WAV"/><Relationship Id="rId4" Type="http://schemas.openxmlformats.org/officeDocument/2006/relationships/audio" Target="../media/partyhorn.wav"/><Relationship Id="rId5" Type="http://schemas.openxmlformats.org/officeDocument/2006/relationships/audio" Target="../media/bserie06.wav"/><Relationship Id="rId6" Type="http://schemas.openxmlformats.org/officeDocument/2006/relationships/audio" Target="../media/partyhorn.wav"/><Relationship Id="rId7" Type="http://schemas.openxmlformats.org/officeDocument/2006/relationships/audio" Target="../media/caralarmoff.wav"/><Relationship Id="rId8" Type="http://schemas.openxmlformats.org/officeDocument/2006/relationships/audio" Target="../media/partyhorn.wav"/><Relationship Id="rId9" Type="http://schemas.openxmlformats.org/officeDocument/2006/relationships/audio" Target="../media/caralarmoff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zipup202.wav"/><Relationship Id="rId13" Type="http://schemas.openxmlformats.org/officeDocument/2006/relationships/audio" Target="../media/zipup202.wav"/><Relationship Id="rId14" Type="http://schemas.openxmlformats.org/officeDocument/2006/relationships/audio" Target="../media/zipup202.wav"/><Relationship Id="rId15" Type="http://schemas.openxmlformats.org/officeDocument/2006/relationships/audio" Target="../media/zipup202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glass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glass.wav"/><Relationship Id="rId16" Type="http://schemas.openxmlformats.org/officeDocument/2006/relationships/audio" Target="../media/caralarmoff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glass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glass.wav"/><Relationship Id="rId16" Type="http://schemas.openxmlformats.org/officeDocument/2006/relationships/audio" Target="../media/caralarmoff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glass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hzipup01.wav"/><Relationship Id="rId15" Type="http://schemas.openxmlformats.org/officeDocument/2006/relationships/audio" Target="../media/glass.wav"/><Relationship Id="rId16" Type="http://schemas.openxmlformats.org/officeDocument/2006/relationships/audio" Target="../media/caralarmoff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hzipup01.wav"/><Relationship Id="rId20" Type="http://schemas.openxmlformats.org/officeDocument/2006/relationships/audio" Target="../media/hzipup01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bserie06.wav"/><Relationship Id="rId3" Type="http://schemas.openxmlformats.org/officeDocument/2006/relationships/audio" Target="../media/glass.wav"/><Relationship Id="rId4" Type="http://schemas.openxmlformats.org/officeDocument/2006/relationships/audio" Target="../media/bserie06.wav"/><Relationship Id="rId5" Type="http://schemas.openxmlformats.org/officeDocument/2006/relationships/audio" Target="../media/glass.wav"/><Relationship Id="rId6" Type="http://schemas.openxmlformats.org/officeDocument/2006/relationships/audio" Target="../media/bserie06.wav"/><Relationship Id="rId7" Type="http://schemas.openxmlformats.org/officeDocument/2006/relationships/audio" Target="../media/glass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glass.wav"/><Relationship Id="rId11" Type="http://schemas.openxmlformats.org/officeDocument/2006/relationships/audio" Target="../media/zapbig0g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hzipup01.wav"/><Relationship Id="rId15" Type="http://schemas.openxmlformats.org/officeDocument/2006/relationships/audio" Target="../media/peopleooo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ipup202.wav"/><Relationship Id="rId19" Type="http://schemas.openxmlformats.org/officeDocument/2006/relationships/audio" Target="../media/hzipup01.wav"/><Relationship Id="rId20" Type="http://schemas.openxmlformats.org/officeDocument/2006/relationships/audio" Target="../media/peopleooo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ipup202.wav"/><Relationship Id="rId17" Type="http://schemas.openxmlformats.org/officeDocument/2006/relationships/audio" Target="../media/hzipup01.wav"/><Relationship Id="rId18" Type="http://schemas.openxmlformats.org/officeDocument/2006/relationships/audio" Target="../media/peopleooo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hzipup01.wav"/><Relationship Id="rId13" Type="http://schemas.openxmlformats.org/officeDocument/2006/relationships/audio" Target="../media/peopleooo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zipup202.wav"/><Relationship Id="rId17" Type="http://schemas.openxmlformats.org/officeDocument/2006/relationships/audio" Target="../media/hzipup01.wav"/><Relationship Id="rId18" Type="http://schemas.openxmlformats.org/officeDocument/2006/relationships/audio" Target="../media/peopleooo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" y="852480"/>
            <a:ext cx="8686800" cy="55119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2880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a Quadratic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57480" y="2911320"/>
                <a:ext cx="257796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280120" y="3065400"/>
                <a:ext cx="19605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04800" y="157968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o fa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84440" y="1374840"/>
                <a:ext cx="29671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515880" y="1563840"/>
            <a:ext cx="804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, you need to find numbers </a:t>
            </a: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p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663300"/>
                </a:solidFill>
                <a:latin typeface="Times New Roman"/>
              </a:rPr>
              <a:t>q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, such th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8400" y="301140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913120" y="3767040"/>
                <a:ext cx="2587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13080" y="4751280"/>
                <a:ext cx="34970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671920" y="4968720"/>
                <a:ext cx="47916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348080" y="4971960"/>
                <a:ext cx="479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157560" y="4815000"/>
                <a:ext cx="9111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19680" y="4800600"/>
                <a:ext cx="911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829040" y="24969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36680" y="1693800"/>
                <a:ext cx="3209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w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87280" y="2513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25320" y="27255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525760" y="274320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192640" y="272268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175520" y="2727360"/>
                <a:ext cx="560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63520" y="2575080"/>
                <a:ext cx="1008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70080" y="255600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84760" y="258768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78800" y="25416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045040" y="1677960"/>
                <a:ext cx="3257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178000" y="46767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41600" y="49021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24480" y="4906800"/>
                <a:ext cx="560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022560" y="4748040"/>
                <a:ext cx="106380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027760" y="47214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94000" y="3857760"/>
                <a:ext cx="3257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29040" y="24969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12920" y="1693800"/>
                <a:ext cx="3257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w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Negative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7280" y="2513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25320" y="27255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25760" y="274320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192640" y="272268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175520" y="2727360"/>
                <a:ext cx="560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63520" y="2571840"/>
                <a:ext cx="100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54320" y="25560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84760" y="258768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39200" y="2541600"/>
                <a:ext cx="1006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064120" y="1677960"/>
                <a:ext cx="3497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78000" y="46767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41600" y="49021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24480" y="4906800"/>
                <a:ext cx="560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049560" y="472140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971960" y="4721400"/>
                <a:ext cx="1006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394000" y="3857760"/>
                <a:ext cx="3257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29040" y="2496960"/>
                <a:ext cx="40863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55480" y="1693800"/>
                <a:ext cx="2970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wh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7280" y="25131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25320" y="27255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25760" y="274320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192640" y="272268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175520" y="2727360"/>
                <a:ext cx="560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63520" y="2571840"/>
                <a:ext cx="100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154320" y="255600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684760" y="258768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10400" y="254160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087880" y="1677960"/>
                <a:ext cx="3449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178000" y="467676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41600" y="490212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24480" y="4906800"/>
                <a:ext cx="560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49560" y="4749840"/>
                <a:ext cx="1008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944960" y="4721400"/>
                <a:ext cx="1062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17760" y="3857760"/>
                <a:ext cx="3209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8360" y="852480"/>
            <a:ext cx="8686800" cy="5511960"/>
            <a:chOff x="198360" y="852480"/>
            <a:chExt cx="8686800" cy="5511960"/>
          </a:xfrm>
        </p:grpSpPr>
        <p:sp>
          <p:nvSpPr>
            <p:cNvPr id="121" name=""/>
            <p:cNvSpPr/>
            <p:nvPr/>
          </p:nvSpPr>
          <p:spPr>
            <a:xfrm>
              <a:off x="198360" y="852480"/>
              <a:ext cx="8686800" cy="55119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928800"/>
              <a:ext cx="86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ypes of Equa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0080" y="1500120"/>
                <a:ext cx="29671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089240" y="1644480"/>
                <a:ext cx="38325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719280" y="2579760"/>
                <a:ext cx="2966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102200" y="2724120"/>
                <a:ext cx="3784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8120" y="3672000"/>
                <a:ext cx="29671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067280" y="3816360"/>
                <a:ext cx="3832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84360" y="4751280"/>
                <a:ext cx="29667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−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043520" y="4896000"/>
                <a:ext cx="3832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4346640" y="4269960"/>
            <a:ext cx="2692440" cy="721440"/>
            <a:chOff x="4346640" y="4269960"/>
            <a:chExt cx="2692440" cy="721440"/>
          </a:xfrm>
        </p:grpSpPr>
        <p:sp>
          <p:nvSpPr>
            <p:cNvPr id="132" name=""/>
            <p:cNvSpPr/>
            <p:nvPr/>
          </p:nvSpPr>
          <p:spPr>
            <a:xfrm>
              <a:off x="4346640" y="4410000"/>
              <a:ext cx="26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Larger numb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460840" y="4269960"/>
              <a:ext cx="8748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068880" y="5428800"/>
            <a:ext cx="2692440" cy="721440"/>
            <a:chOff x="6068880" y="5428800"/>
            <a:chExt cx="2692440" cy="721440"/>
          </a:xfrm>
        </p:grpSpPr>
        <p:sp>
          <p:nvSpPr>
            <p:cNvPr id="135" name=""/>
            <p:cNvSpPr/>
            <p:nvPr/>
          </p:nvSpPr>
          <p:spPr>
            <a:xfrm>
              <a:off x="6068880" y="5568840"/>
              <a:ext cx="26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Times New Roman"/>
                </a:rPr>
                <a:t>Larger numb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183080" y="5428800"/>
              <a:ext cx="8748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36720" y="1708200"/>
                <a:ext cx="4551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71640" y="252720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325520" y="27399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25960" y="275760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47880" y="258912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798720" y="2603520"/>
                <a:ext cx="1008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92000" y="3419640"/>
                <a:ext cx="2463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71880" y="3375000"/>
                <a:ext cx="2519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239840" y="398952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7440" y="4005360"/>
                <a:ext cx="1008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452840" y="3978360"/>
                <a:ext cx="100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519880" y="3965400"/>
                <a:ext cx="1006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800280" y="47372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5120" y="4740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47720" y="486720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47840" y="4692600"/>
                <a:ext cx="14004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59280" y="4851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402160" y="4694400"/>
                <a:ext cx="1401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36720" y="1708200"/>
                <a:ext cx="4551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971640" y="252720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25520" y="27399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225960" y="275760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47880" y="258912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830760" y="2600280"/>
                <a:ext cx="1008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92000" y="3419640"/>
                <a:ext cx="2463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998880" y="337500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9840" y="395928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87440" y="3960720"/>
                <a:ext cx="1008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25840" y="4005360"/>
                <a:ext cx="1063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492880" y="3994200"/>
                <a:ext cx="1062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800280" y="47372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75120" y="4740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647720" y="486720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249640" y="4708440"/>
                <a:ext cx="1063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859280" y="4851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570640" y="4722840"/>
                <a:ext cx="1065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55520" y="1708200"/>
                <a:ext cx="4311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71640" y="252720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25520" y="2739960"/>
                <a:ext cx="5605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25960" y="275760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805040" y="2570040"/>
                <a:ext cx="1063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55960" y="258444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92000" y="3419640"/>
                <a:ext cx="2463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054320" y="3375000"/>
                <a:ext cx="2351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239840" y="3986280"/>
                <a:ext cx="1008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7440" y="3987720"/>
                <a:ext cx="1008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510080" y="4005360"/>
                <a:ext cx="895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576760" y="3994200"/>
                <a:ext cx="8938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800280" y="47372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5120" y="47401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647720" y="486720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90600" y="468936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859280" y="4851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97480" y="4722840"/>
                <a:ext cx="952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SS</cp:lastModifiedBy>
  <dcterms:modified xsi:type="dcterms:W3CDTF">2003-02-05T14:55:42Z</dcterms:modified>
  <cp:revision>9</cp:revision>
  <dc:subject/>
  <dc:title>Slide 1</dc:title>
</cp:coreProperties>
</file>